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458D-1A78-466F-ADCA-22A44452F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092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0600"/>
            <a:ext cx="84092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895C-3072-41B9-BE89-D41BDF6F5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0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F18E-A151-4103-95FD-F25E24CD8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5160" y="213804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440" y="213804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060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5160" y="462060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440" y="462060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5D97-5F68-4E68-8F06-F27472704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09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09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9788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09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EA2B-46A1-4972-97C4-B3CFDD8C4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10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0600"/>
            <a:ext cx="84092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092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0600"/>
            <a:ext cx="84092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10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5160" y="213804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8440" y="213804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060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5160" y="462060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08440" y="4620600"/>
            <a:ext cx="27075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09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C992-7E76-4848-A1A1-53C177DE3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5F02-5F74-40F8-B30A-5EC66AFDD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2124-DEB1-4289-BCC6-BB9DE3428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59788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C328-1167-4207-8879-AF1BF7A52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31CB-579C-4416-B033-685DAC756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080" y="462060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B02A-81DE-4D19-A265-579C26C80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2138040"/>
            <a:ext cx="41036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0600"/>
            <a:ext cx="84092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983A-22F0-4950-ACF7-92FAB1111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0A642-D6E8-4530-8B97-A26A586F490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09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99284c"/>
                </a:solidFill>
                <a:latin typeface="Arial"/>
                <a:ea typeface="Lucida Sans Unicode"/>
              </a:rPr>
              <a:t>Муниципальное бюджетное дошкольное образовательное учреждение </a:t>
            </a:r>
            <a:br>
              <a:rPr sz="1500"/>
            </a:br>
            <a:r>
              <a:rPr b="1" lang="ru-RU" sz="1500" spc="-1" strike="noStrike">
                <a:solidFill>
                  <a:srgbClr val="99284c"/>
                </a:solidFill>
                <a:latin typeface="Arial"/>
                <a:ea typeface="Lucida Sans Unicode"/>
              </a:rPr>
              <a:t>«Детский сад общеразвивающего вида «Рябинушка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52360" y="2820960"/>
            <a:ext cx="76327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Franklin Gothic Medium Cond"/>
              </a:rPr>
              <a:t>Презентация на тем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Franklin Gothic Medium Cond"/>
              </a:rPr>
              <a:t>«Встреча с интересными людь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975280"/>
            <a:ext cx="31593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ыполнили воспита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мурага Е.М, Кирилюк А.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0680" y="531720"/>
            <a:ext cx="9072360" cy="65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72000" y="1152360"/>
            <a:ext cx="3888000" cy="5256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0960" y="804960"/>
            <a:ext cx="472104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Narrow"/>
              </a:rPr>
              <a:t>Первая школа растущего человека – семья. Она – целый мир для ребенка, здесь он усваивает умение любить, терпеть, радоваться, сочувствовать. В условиях семьи складывается присущий только ей эмоционально-нравственный опыт: убеждения и идеалы, оценки и ценностные ориентации, отношение к окружающим людям и деятельности. Приоритет в воспитании ребенка, принадлежит сем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76360" y="4608360"/>
            <a:ext cx="8712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  <a:ea typeface="Lucida Sans Unicode"/>
              </a:rPr>
              <a:t>В детском саду ребёнок получает свои первые знания, приобретает навыки общения с другими детьми и взрослыми, формирует навык организовывать собственную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  <a:ea typeface="Lucida Sans Unicode"/>
              </a:rPr>
              <a:t>Вовлечение родителей в образовательный процесс  – это объединение общих целей, интересов и деятельности в плане развития гармоничного и здорового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00360" y="720720"/>
            <a:ext cx="62640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  <a:ea typeface="Lucida Sans Unicode"/>
              </a:rPr>
              <a:t>Принципы взаимодействия педагога с родителя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Доброжелательный стиль об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23720">
              <a:lnSpc>
                <a:spcPct val="93000"/>
              </a:lnSpc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Индивидуальный под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23720">
              <a:lnSpc>
                <a:spcPct val="93000"/>
              </a:lnSpc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Сотрудничество, а не наставн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23720">
              <a:lnSpc>
                <a:spcPct val="93000"/>
              </a:lnSpc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Тщательная подгот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-423720">
              <a:lnSpc>
                <a:spcPct val="93000"/>
              </a:lnSpc>
              <a:tabLst>
                <a:tab algn="l" pos="0"/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Lucida Sans Unicode"/>
              </a:rPr>
              <a:t>Динам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  <a:ea typeface="Lucida Sans Unicode"/>
              </a:rPr>
              <a:t>«Встречи с интересными людьм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2240" y="2138400"/>
            <a:ext cx="84186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840" bIns="0" anchor="t">
            <a:noAutofit/>
          </a:bodyPr>
          <a:p>
            <a:pPr algn="just">
              <a:lnSpc>
                <a:spcPct val="97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  </a:t>
            </a:r>
            <a:r>
              <a:rPr b="1" lang="ru-RU" sz="22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Цель: вовлечение  родителей  воспитанников в единое образовательное пространство, установление доверительных и партнерских отнош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7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Задачи:</a:t>
            </a:r>
            <a:br>
              <a:rPr sz="2200"/>
            </a:br>
            <a:r>
              <a:rPr b="1" lang="ru-RU" sz="22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•Приобщить родителей к жизни детского са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7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•</a:t>
            </a:r>
            <a:r>
              <a:rPr b="1" lang="ru-RU" sz="22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Объединить усилия детского сада и семьи в вопросах воспитания, развития ребен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7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•</a:t>
            </a:r>
            <a:r>
              <a:rPr b="1" lang="ru-RU" sz="22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Привлечь родителей к активному участию в деятельности ДОУ через организацию интересных форм работ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 Narrow"/>
                <a:ea typeface="Lucida Sans Unicode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78000" y="503280"/>
            <a:ext cx="4444920" cy="518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22920" y="2232000"/>
            <a:ext cx="460836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7640" y="1224000"/>
            <a:ext cx="4319640" cy="42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40360" y="1224000"/>
            <a:ext cx="43196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9760" y="647640"/>
            <a:ext cx="4243320" cy="489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51280" y="1800360"/>
            <a:ext cx="46800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6360" y="709560"/>
            <a:ext cx="4459320" cy="4905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52960" y="2365200"/>
            <a:ext cx="4235400" cy="454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26T07:52:39Z</dcterms:created>
  <dc:creator/>
  <dc:description/>
  <dc:language>en-US</dc:language>
  <cp:lastModifiedBy>Admin</cp:lastModifiedBy>
  <dcterms:modified xsi:type="dcterms:W3CDTF">2008-01-01T13:02:17Z</dcterms:modified>
  <cp:revision>7</cp:revision>
  <dc:subject/>
  <dc:title>Муниципальное бюджетное дошкольное образовательное учреждение  «Детский сад общеразвивающего вида «Рябинушка»</dc:title>
</cp:coreProperties>
</file>